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CD9-74AE-4DFF-A6A9-1F3D7C44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C19-BF5E-4D76-BFB8-A103F2BE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A39-34E5-4562-9CF9-E4FC5701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88F-8E6A-49AC-A2D8-08D6E795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AC8-81D2-478C-8AFB-B532DD10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7A4-DA03-4574-AEDA-C2DFD9ED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41D-11E8-49D0-BF50-E6F201D6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1DD-F31F-4D74-A456-BCB6BCFE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E50-2A65-4D62-8CE3-94F95C95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6FE-E4F2-4746-9897-FFD7AB91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279-F22D-46EF-9EBE-6FDD659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58B-FE10-435D-B8D4-3B9DDC5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926D-EC47-4A4C-8FB7-F118F50739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46400"/>
            <a:ext cx="792504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6.2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二元一次方程组的解法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—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加减消元法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7"/>
          <p:cNvGrpSpPr/>
          <p:nvPr/>
        </p:nvGrpSpPr>
        <p:grpSpPr>
          <a:xfrm>
            <a:off x="4782960" y="852480"/>
            <a:ext cx="3318480" cy="1572480"/>
            <a:chOff x="4782960" y="852480"/>
            <a:chExt cx="3318480" cy="1572480"/>
          </a:xfrm>
        </p:grpSpPr>
        <p:sp>
          <p:nvSpPr>
            <p:cNvPr id="146" name="AutoShape 18"/>
            <p:cNvSpPr/>
            <p:nvPr/>
          </p:nvSpPr>
          <p:spPr>
            <a:xfrm>
              <a:off x="4782960" y="1463040"/>
              <a:ext cx="1523880" cy="381240"/>
            </a:xfrm>
            <a:prstGeom prst="rightArrow">
              <a:avLst>
                <a:gd name="adj1" fmla="val 50000"/>
                <a:gd name="adj2" fmla="val 999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9"/>
            <p:cNvSpPr/>
            <p:nvPr/>
          </p:nvSpPr>
          <p:spPr>
            <a:xfrm>
              <a:off x="6726600" y="1081080"/>
              <a:ext cx="228600" cy="114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720"/>
                <a:gd name="textAreaBottom" fmla="*/ 1114200 h 114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7149600" y="852480"/>
              <a:ext cx="95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-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1"/>
            <p:cNvSpPr/>
            <p:nvPr/>
          </p:nvSpPr>
          <p:spPr>
            <a:xfrm>
              <a:off x="7122960" y="1843560"/>
              <a:ext cx="79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5"/>
          <p:cNvGrpSpPr/>
          <p:nvPr/>
        </p:nvGrpSpPr>
        <p:grpSpPr>
          <a:xfrm>
            <a:off x="852120" y="866880"/>
            <a:ext cx="3828600" cy="1495440"/>
            <a:chOff x="852120" y="866880"/>
            <a:chExt cx="3828600" cy="1495440"/>
          </a:xfrm>
        </p:grpSpPr>
        <p:sp>
          <p:nvSpPr>
            <p:cNvPr id="151" name="Rectangle 8"/>
            <p:cNvSpPr/>
            <p:nvPr/>
          </p:nvSpPr>
          <p:spPr>
            <a:xfrm>
              <a:off x="852120" y="1347120"/>
              <a:ext cx="72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例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9"/>
            <p:cNvSpPr/>
            <p:nvPr/>
          </p:nvSpPr>
          <p:spPr>
            <a:xfrm>
              <a:off x="1881000" y="1118520"/>
              <a:ext cx="304560" cy="1066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6320"/>
                <a:gd name="textAreaBottom" fmla="*/ 103860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2273400" y="866880"/>
              <a:ext cx="240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x+6y= 7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2274120" y="1780920"/>
              <a:ext cx="240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x+3y=4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5"/>
          <p:cNvSpPr/>
          <p:nvPr/>
        </p:nvSpPr>
        <p:spPr>
          <a:xfrm>
            <a:off x="928800" y="276084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x+6y=8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504800" y="386244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+3y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2647800" y="5360400"/>
            <a:ext cx="3124080" cy="1068840"/>
            <a:chOff x="2647800" y="5360400"/>
            <a:chExt cx="3124080" cy="1068840"/>
          </a:xfrm>
        </p:grpSpPr>
        <p:sp>
          <p:nvSpPr>
            <p:cNvPr id="158" name="Rectangle 8"/>
            <p:cNvSpPr/>
            <p:nvPr/>
          </p:nvSpPr>
          <p:spPr>
            <a:xfrm flipV="1">
              <a:off x="3762360" y="536004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=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2647800" y="5475240"/>
              <a:ext cx="312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∴</a:t>
              </a: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32"/>
          <p:cNvSpPr/>
          <p:nvPr/>
        </p:nvSpPr>
        <p:spPr>
          <a:xfrm>
            <a:off x="1861200" y="33577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6"/>
          <p:cNvGrpSpPr/>
          <p:nvPr/>
        </p:nvGrpSpPr>
        <p:grpSpPr>
          <a:xfrm>
            <a:off x="1045440" y="1428840"/>
            <a:ext cx="6020280" cy="2509920"/>
            <a:chOff x="1045440" y="1428840"/>
            <a:chExt cx="6020280" cy="2509920"/>
          </a:xfrm>
        </p:grpSpPr>
        <p:sp>
          <p:nvSpPr>
            <p:cNvPr id="162" name="Rectangle 27"/>
            <p:cNvSpPr/>
            <p:nvPr/>
          </p:nvSpPr>
          <p:spPr>
            <a:xfrm>
              <a:off x="1225440" y="1962000"/>
              <a:ext cx="584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方程组                       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"/>
            <p:cNvSpPr/>
            <p:nvPr/>
          </p:nvSpPr>
          <p:spPr>
            <a:xfrm>
              <a:off x="4833720" y="1657080"/>
              <a:ext cx="304560" cy="1142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2640"/>
                <a:gd name="textAreaBottom" fmla="*/ 111312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5145480" y="1428840"/>
              <a:ext cx="154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+2b=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145480" y="2495160"/>
              <a:ext cx="154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a+b=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1045440" y="3357360"/>
              <a:ext cx="147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则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+b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2"/>
            <p:cNvSpPr/>
            <p:nvPr/>
          </p:nvSpPr>
          <p:spPr>
            <a:xfrm>
              <a:off x="2504880" y="3785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33"/>
          <p:cNvSpPr/>
          <p:nvPr/>
        </p:nvSpPr>
        <p:spPr>
          <a:xfrm>
            <a:off x="2577600" y="3309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57280" y="2230560"/>
            <a:ext cx="787248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将二元一次方程组中两个方程相加（或相减，或进行适当的变形后在加减），消去一个未知数，得到一元一次方程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通过求解一元一次方程，再求得二元一次方程组的解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这种解方程的方法称为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加减消元法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简称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加减法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87480" y="798120"/>
            <a:ext cx="7215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加减消元法解二元一次方程的步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1244520" y="407988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822240" y="2857680"/>
            <a:ext cx="764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两个方程两边分别相加或相减，消去一个未知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857160" y="2000160"/>
            <a:ext cx="7572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两个方程化为有一个未知数的系数绝对值相等的两个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1179360" y="3505320"/>
            <a:ext cx="435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所得到的一元一次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800280" y="432756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所得到的未知数的值带入任意一个方程求另一个未知数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5"/>
          <p:cNvSpPr/>
          <p:nvPr/>
        </p:nvSpPr>
        <p:spPr>
          <a:xfrm>
            <a:off x="1190520" y="5141880"/>
            <a:ext cx="471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检验并确定原方程组的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3"/>
          <p:cNvGrpSpPr/>
          <p:nvPr/>
        </p:nvGrpSpPr>
        <p:grpSpPr>
          <a:xfrm>
            <a:off x="571680" y="1214280"/>
            <a:ext cx="7263720" cy="3868920"/>
            <a:chOff x="571680" y="1214280"/>
            <a:chExt cx="7263720" cy="3868920"/>
          </a:xfrm>
        </p:grpSpPr>
        <p:sp>
          <p:nvSpPr>
            <p:cNvPr id="178" name="Text Box 4"/>
            <p:cNvSpPr/>
            <p:nvPr/>
          </p:nvSpPr>
          <p:spPr>
            <a:xfrm>
              <a:off x="571680" y="1600200"/>
              <a:ext cx="3463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 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加减法解方程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3643200" y="1357200"/>
              <a:ext cx="228240" cy="106704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4000320" y="1214280"/>
              <a:ext cx="274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x+7y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9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4000320" y="2000160"/>
              <a:ext cx="2361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x-5y=17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6399000" y="1571760"/>
              <a:ext cx="1436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应用（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1639080" y="2666880"/>
              <a:ext cx="1745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①</a:t>
              </a:r>
              <a:r>
                <a:rPr b="0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去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1476360" y="3357720"/>
              <a:ext cx="2971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.①</a:t>
              </a:r>
              <a:r>
                <a:rPr b="0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去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1864080" y="3998880"/>
              <a:ext cx="2163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 ②</a:t>
              </a:r>
              <a:r>
                <a:rPr b="0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去常数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1751040" y="4608360"/>
              <a:ext cx="1596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. 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以上都不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3"/>
          <p:cNvSpPr/>
          <p:nvPr/>
        </p:nvSpPr>
        <p:spPr>
          <a:xfrm>
            <a:off x="7289640" y="1571760"/>
            <a:ext cx="39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4"/>
          <p:cNvSpPr/>
          <p:nvPr/>
        </p:nvSpPr>
        <p:spPr>
          <a:xfrm>
            <a:off x="806040" y="1665360"/>
            <a:ext cx="106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2106720" y="1357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260080" y="1120680"/>
            <a:ext cx="152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x+2y=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2336040" y="2187720"/>
            <a:ext cx="125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x-2y=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3892680" y="1714680"/>
            <a:ext cx="510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消去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后所得的方程是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7323840" y="1714680"/>
            <a:ext cx="39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1546200" y="276552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A.6x=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3527280" y="2765520"/>
            <a:ext cx="198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B.6x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1546200" y="345132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C.6x=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3527280" y="345132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D.x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714240" y="1463760"/>
            <a:ext cx="35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用加减法解方程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625920" y="1219320"/>
            <a:ext cx="174600" cy="990360"/>
          </a:xfrm>
          <a:custGeom>
            <a:avLst/>
            <a:gdLst>
              <a:gd name="textAreaLeft" fmla="*/ 111600 w 174600"/>
              <a:gd name="textAreaRight" fmla="*/ 174960 w 174600"/>
              <a:gd name="textAreaTop" fmla="*/ 34200 h 990360"/>
              <a:gd name="textAreaBottom" fmla="*/ 95616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1"/>
                  <a:pt x="10800" y="2402"/>
                </a:cubicBezTo>
                <a:lnTo>
                  <a:pt x="10800" y="8398"/>
                </a:lnTo>
                <a:cubicBezTo>
                  <a:pt x="10800" y="9599"/>
                  <a:pt x="5400" y="10800"/>
                  <a:pt x="0" y="10800"/>
                </a:cubicBezTo>
                <a:cubicBezTo>
                  <a:pt x="5400" y="10800"/>
                  <a:pt x="10800" y="12001"/>
                  <a:pt x="10800" y="13202"/>
                </a:cubicBezTo>
                <a:lnTo>
                  <a:pt x="10800" y="19198"/>
                </a:lnTo>
                <a:cubicBezTo>
                  <a:pt x="10800" y="2039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726000" y="1109520"/>
            <a:ext cx="2133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x-5y=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699000" y="1773360"/>
            <a:ext cx="179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x-5y=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5716080" y="1492200"/>
            <a:ext cx="148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具体解法如下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85920" y="2500200"/>
            <a:ext cx="708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得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1    (2)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得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1285920" y="3357720"/>
            <a:ext cx="5376960" cy="963360"/>
            <a:chOff x="1285920" y="3357720"/>
            <a:chExt cx="5376960" cy="963360"/>
          </a:xfrm>
        </p:grpSpPr>
        <p:sp>
          <p:nvSpPr>
            <p:cNvPr id="205" name="Text Box 10"/>
            <p:cNvSpPr/>
            <p:nvPr/>
          </p:nvSpPr>
          <p:spPr>
            <a:xfrm>
              <a:off x="1285920" y="3609720"/>
              <a:ext cx="1295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∴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2509920" y="3531960"/>
              <a:ext cx="149040" cy="761760"/>
            </a:xfrm>
            <a:custGeom>
              <a:avLst/>
              <a:gdLst>
                <a:gd name="textAreaLeft" fmla="*/ 95400 w 149040"/>
                <a:gd name="textAreaRight" fmla="*/ 149400 w 149040"/>
                <a:gd name="textAreaTop" fmla="*/ 29160 h 761760"/>
                <a:gd name="textAreaBottom" fmla="*/ 7326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21"/>
                    <a:pt x="10800" y="2642"/>
                  </a:cubicBezTo>
                  <a:lnTo>
                    <a:pt x="10800" y="8158"/>
                  </a:lnTo>
                  <a:cubicBezTo>
                    <a:pt x="10800" y="9479"/>
                    <a:pt x="5400" y="10800"/>
                    <a:pt x="0" y="10800"/>
                  </a:cubicBezTo>
                  <a:cubicBezTo>
                    <a:pt x="5400" y="10800"/>
                    <a:pt x="10800" y="12121"/>
                    <a:pt x="10800" y="13442"/>
                  </a:cubicBezTo>
                  <a:lnTo>
                    <a:pt x="10800" y="18958"/>
                  </a:lnTo>
                  <a:cubicBezTo>
                    <a:pt x="10800" y="20279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2659680" y="3357720"/>
              <a:ext cx="69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=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2691720" y="3846240"/>
              <a:ext cx="791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5234040" y="3609720"/>
              <a:ext cx="142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其中出现错误的一步是（   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5"/>
          <p:cNvSpPr/>
          <p:nvPr/>
        </p:nvSpPr>
        <p:spPr>
          <a:xfrm>
            <a:off x="949320" y="4929120"/>
            <a:ext cx="1176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2820600" y="4929120"/>
            <a:ext cx="115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4677840" y="4929120"/>
            <a:ext cx="115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7280280" y="3605040"/>
            <a:ext cx="8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714240" y="1184400"/>
            <a:ext cx="314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.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用加减法解方程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669600" y="2036880"/>
            <a:ext cx="3569760" cy="2989440"/>
            <a:chOff x="669600" y="2036880"/>
            <a:chExt cx="3569760" cy="2989440"/>
          </a:xfrm>
        </p:grpSpPr>
        <p:sp>
          <p:nvSpPr>
            <p:cNvPr id="216" name="Rectangle 4"/>
            <p:cNvSpPr/>
            <p:nvPr/>
          </p:nvSpPr>
          <p:spPr>
            <a:xfrm>
              <a:off x="669600" y="2417760"/>
              <a:ext cx="871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1677600" y="2189160"/>
              <a:ext cx="304560" cy="10670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2111040" y="2036880"/>
              <a:ext cx="1971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x-2y=5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2150280" y="2951280"/>
              <a:ext cx="1921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x+4y=12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745560" y="4017960"/>
              <a:ext cx="871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9"/>
            <p:cNvSpPr/>
            <p:nvPr/>
          </p:nvSpPr>
          <p:spPr>
            <a:xfrm>
              <a:off x="1753920" y="3789360"/>
              <a:ext cx="304560" cy="10670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188800" y="3637080"/>
              <a:ext cx="2050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x-2y= 10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2189160" y="4551480"/>
              <a:ext cx="1997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x-5y=-3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2"/>
          <p:cNvGrpSpPr/>
          <p:nvPr/>
        </p:nvGrpSpPr>
        <p:grpSpPr>
          <a:xfrm>
            <a:off x="4645080" y="1828800"/>
            <a:ext cx="3392640" cy="1448280"/>
            <a:chOff x="4645080" y="1828800"/>
            <a:chExt cx="3392640" cy="1448280"/>
          </a:xfrm>
        </p:grpSpPr>
        <p:sp>
          <p:nvSpPr>
            <p:cNvPr id="225" name="AutoShape 13"/>
            <p:cNvSpPr/>
            <p:nvPr/>
          </p:nvSpPr>
          <p:spPr>
            <a:xfrm>
              <a:off x="4645080" y="2514600"/>
              <a:ext cx="1524240" cy="30456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6703200" y="2057400"/>
              <a:ext cx="228600" cy="1142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2640"/>
                <a:gd name="textAreaBottom" fmla="*/ 111312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5"/>
            <p:cNvSpPr/>
            <p:nvPr/>
          </p:nvSpPr>
          <p:spPr>
            <a:xfrm>
              <a:off x="7005600" y="182880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7015680" y="2756520"/>
              <a:ext cx="102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0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7"/>
          <p:cNvGrpSpPr/>
          <p:nvPr/>
        </p:nvGrpSpPr>
        <p:grpSpPr>
          <a:xfrm>
            <a:off x="4645080" y="3700440"/>
            <a:ext cx="3044520" cy="1511640"/>
            <a:chOff x="4645080" y="3700440"/>
            <a:chExt cx="3044520" cy="1511640"/>
          </a:xfrm>
        </p:grpSpPr>
        <p:sp>
          <p:nvSpPr>
            <p:cNvPr id="230" name="AutoShape 18"/>
            <p:cNvSpPr/>
            <p:nvPr/>
          </p:nvSpPr>
          <p:spPr>
            <a:xfrm>
              <a:off x="4645080" y="4311000"/>
              <a:ext cx="1523880" cy="374040"/>
            </a:xfrm>
            <a:prstGeom prst="rightArrow">
              <a:avLst>
                <a:gd name="adj1" fmla="val 50000"/>
                <a:gd name="adj2" fmla="val 999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9"/>
            <p:cNvSpPr/>
            <p:nvPr/>
          </p:nvSpPr>
          <p:spPr>
            <a:xfrm>
              <a:off x="6588360" y="3929040"/>
              <a:ext cx="228600" cy="114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360"/>
                <a:gd name="textAreaBottom" fmla="*/ 1113840 h 11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"/>
            <p:cNvSpPr/>
            <p:nvPr/>
          </p:nvSpPr>
          <p:spPr>
            <a:xfrm>
              <a:off x="6934320" y="370044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6934320" y="469152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"/>
          <p:cNvSpPr/>
          <p:nvPr/>
        </p:nvSpPr>
        <p:spPr>
          <a:xfrm>
            <a:off x="2551680" y="185724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谈谈你对“加减消元法”的认识及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3293280" y="4000680"/>
            <a:ext cx="36669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习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1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组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Documents and Settings\Administrator\Local Settings\Temporary Internet Files\Content.IE5\UV41EZ01\MC900234083[1].wmf"/>
          <p:cNvPicPr/>
          <p:nvPr/>
        </p:nvPicPr>
        <p:blipFill>
          <a:blip r:embed="rId1"/>
          <a:stretch/>
        </p:blipFill>
        <p:spPr>
          <a:xfrm>
            <a:off x="1571760" y="4000680"/>
            <a:ext cx="1473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任意多边形 17"/>
          <p:cNvSpPr/>
          <p:nvPr/>
        </p:nvSpPr>
        <p:spPr>
          <a:xfrm>
            <a:off x="-1440" y="0"/>
            <a:ext cx="5437080" cy="6858000"/>
          </a:xfrm>
          <a:custGeom>
            <a:avLst/>
            <a:gdLst/>
            <a:ahLst/>
            <a:rect l="l" t="t" r="r" b="b"/>
            <a:pathLst>
              <a:path w="5437991" h="6858000">
                <a:moveTo>
                  <a:pt x="0" y="0"/>
                </a:moveTo>
                <a:lnTo>
                  <a:pt x="5437991" y="0"/>
                </a:lnTo>
                <a:lnTo>
                  <a:pt x="1633127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a1d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306440" y="120636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0"/>
          <p:cNvSpPr/>
          <p:nvPr/>
        </p:nvSpPr>
        <p:spPr>
          <a:xfrm>
            <a:off x="27792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22"/>
          <p:cNvSpPr/>
          <p:nvPr/>
        </p:nvSpPr>
        <p:spPr>
          <a:xfrm>
            <a:off x="57168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24"/>
          <p:cNvSpPr/>
          <p:nvPr/>
        </p:nvSpPr>
        <p:spPr>
          <a:xfrm>
            <a:off x="1320840" y="534960"/>
            <a:ext cx="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4192560" y="1246320"/>
            <a:ext cx="736560" cy="73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8"/>
          <p:cNvSpPr/>
          <p:nvPr/>
        </p:nvSpPr>
        <p:spPr>
          <a:xfrm>
            <a:off x="3710160" y="2103480"/>
            <a:ext cx="73656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31"/>
          <p:cNvSpPr/>
          <p:nvPr/>
        </p:nvSpPr>
        <p:spPr>
          <a:xfrm>
            <a:off x="4246560" y="1298520"/>
            <a:ext cx="628560" cy="63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32"/>
          <p:cNvSpPr/>
          <p:nvPr/>
        </p:nvSpPr>
        <p:spPr>
          <a:xfrm>
            <a:off x="3762360" y="2157480"/>
            <a:ext cx="630360" cy="628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3"/>
          <p:cNvGrpSpPr/>
          <p:nvPr/>
        </p:nvGrpSpPr>
        <p:grpSpPr>
          <a:xfrm>
            <a:off x="3246480" y="2955960"/>
            <a:ext cx="735120" cy="736560"/>
            <a:chOff x="3246480" y="2955960"/>
            <a:chExt cx="735120" cy="736560"/>
          </a:xfrm>
        </p:grpSpPr>
        <p:sp>
          <p:nvSpPr>
            <p:cNvPr id="52" name="椭圆 29"/>
            <p:cNvSpPr/>
            <p:nvPr/>
          </p:nvSpPr>
          <p:spPr>
            <a:xfrm>
              <a:off x="3246480" y="2955960"/>
              <a:ext cx="735120" cy="73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33"/>
            <p:cNvSpPr/>
            <p:nvPr/>
          </p:nvSpPr>
          <p:spPr>
            <a:xfrm>
              <a:off x="3298680" y="3008160"/>
              <a:ext cx="630360" cy="630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8"/>
          <p:cNvGrpSpPr/>
          <p:nvPr/>
        </p:nvGrpSpPr>
        <p:grpSpPr>
          <a:xfrm>
            <a:off x="2773440" y="3849840"/>
            <a:ext cx="734760" cy="734760"/>
            <a:chOff x="2773440" y="3849840"/>
            <a:chExt cx="734760" cy="734760"/>
          </a:xfrm>
        </p:grpSpPr>
        <p:sp>
          <p:nvSpPr>
            <p:cNvPr id="55" name="椭圆 30"/>
            <p:cNvSpPr/>
            <p:nvPr/>
          </p:nvSpPr>
          <p:spPr>
            <a:xfrm>
              <a:off x="2773440" y="3849840"/>
              <a:ext cx="734760" cy="73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34"/>
            <p:cNvSpPr/>
            <p:nvPr/>
          </p:nvSpPr>
          <p:spPr>
            <a:xfrm>
              <a:off x="2825640" y="3894120"/>
              <a:ext cx="630000" cy="630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35"/>
          <p:cNvSpPr/>
          <p:nvPr/>
        </p:nvSpPr>
        <p:spPr>
          <a:xfrm>
            <a:off x="4929120" y="142884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旧知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6"/>
          <p:cNvSpPr/>
          <p:nvPr/>
        </p:nvSpPr>
        <p:spPr>
          <a:xfrm>
            <a:off x="4478400" y="2268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7"/>
          <p:cNvSpPr/>
          <p:nvPr/>
        </p:nvSpPr>
        <p:spPr>
          <a:xfrm>
            <a:off x="3975120" y="31827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8"/>
          <p:cNvSpPr/>
          <p:nvPr/>
        </p:nvSpPr>
        <p:spPr>
          <a:xfrm>
            <a:off x="3494160" y="404964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随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9"/>
          <p:cNvGrpSpPr/>
          <p:nvPr/>
        </p:nvGrpSpPr>
        <p:grpSpPr>
          <a:xfrm>
            <a:off x="2279520" y="4821120"/>
            <a:ext cx="735120" cy="735120"/>
            <a:chOff x="2279520" y="4821120"/>
            <a:chExt cx="735120" cy="735120"/>
          </a:xfrm>
        </p:grpSpPr>
        <p:sp>
          <p:nvSpPr>
            <p:cNvPr id="62" name="椭圆 30"/>
            <p:cNvSpPr/>
            <p:nvPr/>
          </p:nvSpPr>
          <p:spPr>
            <a:xfrm>
              <a:off x="2279520" y="4821120"/>
              <a:ext cx="735120" cy="73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34"/>
            <p:cNvSpPr/>
            <p:nvPr/>
          </p:nvSpPr>
          <p:spPr>
            <a:xfrm>
              <a:off x="2331720" y="4865400"/>
              <a:ext cx="630360" cy="630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  <a:ea typeface="微软雅黑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文本框 38"/>
          <p:cNvSpPr/>
          <p:nvPr/>
        </p:nvSpPr>
        <p:spPr>
          <a:xfrm>
            <a:off x="3000240" y="4983120"/>
            <a:ext cx="30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357200"/>
            <a:ext cx="6357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代入消元法解二元一次方程组的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201680" y="478620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写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214280" y="4083120"/>
            <a:ext cx="22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239840" y="3359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9"/>
          <p:cNvGrpSpPr/>
          <p:nvPr/>
        </p:nvGrpSpPr>
        <p:grpSpPr>
          <a:xfrm>
            <a:off x="3112920" y="4002120"/>
            <a:ext cx="4513320" cy="520560"/>
            <a:chOff x="3112920" y="4002120"/>
            <a:chExt cx="4513320" cy="520560"/>
          </a:xfrm>
        </p:grpSpPr>
        <p:sp>
          <p:nvSpPr>
            <p:cNvPr id="70" name="Rectangle 10"/>
            <p:cNvSpPr/>
            <p:nvPr/>
          </p:nvSpPr>
          <p:spPr>
            <a:xfrm>
              <a:off x="5098680" y="400212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别求出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两个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未知数的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 flipV="1">
              <a:off x="3112920" y="4362120"/>
              <a:ext cx="1111320" cy="46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3327480" y="4773600"/>
            <a:ext cx="3273480" cy="520560"/>
            <a:chOff x="3327480" y="4773600"/>
            <a:chExt cx="3273480" cy="520560"/>
          </a:xfrm>
        </p:grpSpPr>
        <p:sp>
          <p:nvSpPr>
            <p:cNvPr id="73" name="Rectangle 13"/>
            <p:cNvSpPr/>
            <p:nvPr/>
          </p:nvSpPr>
          <p:spPr>
            <a:xfrm>
              <a:off x="4926960" y="4773600"/>
              <a:ext cx="167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写出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方程组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4"/>
            <p:cNvSpPr/>
            <p:nvPr/>
          </p:nvSpPr>
          <p:spPr>
            <a:xfrm>
              <a:off x="3327480" y="5070600"/>
              <a:ext cx="1071360" cy="6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5"/>
          <p:cNvSpPr/>
          <p:nvPr/>
        </p:nvSpPr>
        <p:spPr>
          <a:xfrm>
            <a:off x="1348920" y="235728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2997360" y="2376360"/>
            <a:ext cx="5329800" cy="520560"/>
            <a:chOff x="2997360" y="2376360"/>
            <a:chExt cx="5329800" cy="520560"/>
          </a:xfrm>
        </p:grpSpPr>
        <p:sp>
          <p:nvSpPr>
            <p:cNvPr id="77" name="Line 17"/>
            <p:cNvSpPr/>
            <p:nvPr/>
          </p:nvSpPr>
          <p:spPr>
            <a:xfrm>
              <a:off x="2997360" y="2636640"/>
              <a:ext cx="12596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4237560" y="2376360"/>
              <a:ext cx="40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一个未知数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代数式表示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另一个未知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1"/>
          <p:cNvGrpSpPr/>
          <p:nvPr/>
        </p:nvGrpSpPr>
        <p:grpSpPr>
          <a:xfrm>
            <a:off x="3081240" y="3367080"/>
            <a:ext cx="3865320" cy="520560"/>
            <a:chOff x="3081240" y="3367080"/>
            <a:chExt cx="3865320" cy="520560"/>
          </a:xfrm>
        </p:grpSpPr>
        <p:sp>
          <p:nvSpPr>
            <p:cNvPr id="80" name="Rectangle 22"/>
            <p:cNvSpPr/>
            <p:nvPr/>
          </p:nvSpPr>
          <p:spPr>
            <a:xfrm>
              <a:off x="4290480" y="3367080"/>
              <a:ext cx="265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去一个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3081240" y="3654360"/>
              <a:ext cx="10918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49"/>
          <p:cNvSpPr/>
          <p:nvPr/>
        </p:nvSpPr>
        <p:spPr>
          <a:xfrm>
            <a:off x="685800" y="2444760"/>
            <a:ext cx="7772400" cy="1968480"/>
          </a:xfrm>
          <a:prstGeom prst="roundRect">
            <a:avLst>
              <a:gd name="adj" fmla="val 7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理解解二元一次方程组的另一种常用方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减消元法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熟练以及灵活应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减消元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二元一次方程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10"/>
          <p:cNvPicPr/>
          <p:nvPr/>
        </p:nvPicPr>
        <p:blipFill>
          <a:blip r:embed="rId1"/>
          <a:srcRect l="0" t="0" r="0" b="18"/>
          <a:stretch/>
        </p:blipFill>
        <p:spPr>
          <a:xfrm>
            <a:off x="714240" y="4264200"/>
            <a:ext cx="543240" cy="2022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85880" y="107784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1517760" y="2025720"/>
            <a:ext cx="7125840" cy="2828880"/>
            <a:chOff x="1517760" y="2025720"/>
            <a:chExt cx="7125840" cy="2828880"/>
          </a:xfrm>
        </p:grpSpPr>
        <p:grpSp>
          <p:nvGrpSpPr>
            <p:cNvPr id="86" name="Group 9"/>
            <p:cNvGrpSpPr/>
            <p:nvPr/>
          </p:nvGrpSpPr>
          <p:grpSpPr>
            <a:xfrm>
              <a:off x="1517760" y="2025720"/>
              <a:ext cx="5577120" cy="1724400"/>
              <a:chOff x="1517760" y="2025720"/>
              <a:chExt cx="5577120" cy="1724400"/>
            </a:xfrm>
          </p:grpSpPr>
          <p:sp>
            <p:nvSpPr>
              <p:cNvPr id="87" name="Text Box 10"/>
              <p:cNvSpPr/>
              <p:nvPr/>
            </p:nvSpPr>
            <p:spPr>
              <a:xfrm>
                <a:off x="1517760" y="2624400"/>
                <a:ext cx="262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为了解方程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Group 11"/>
              <p:cNvGrpSpPr/>
              <p:nvPr/>
            </p:nvGrpSpPr>
            <p:grpSpPr>
              <a:xfrm>
                <a:off x="3857040" y="2025720"/>
                <a:ext cx="3237840" cy="1724400"/>
                <a:chOff x="3857040" y="2025720"/>
                <a:chExt cx="3237840" cy="1724400"/>
              </a:xfrm>
            </p:grpSpPr>
            <p:sp>
              <p:nvSpPr>
                <p:cNvPr id="89" name="AutoShape 12"/>
                <p:cNvSpPr/>
                <p:nvPr/>
              </p:nvSpPr>
              <p:spPr>
                <a:xfrm>
                  <a:off x="3857040" y="2254320"/>
                  <a:ext cx="190440" cy="1295640"/>
                </a:xfrm>
                <a:custGeom>
                  <a:avLst/>
                  <a:gdLst>
                    <a:gd name="textAreaLeft" fmla="*/ 121680 w 190440"/>
                    <a:gd name="textAreaRight" fmla="*/ 190800 w 190440"/>
                    <a:gd name="textAreaTop" fmla="*/ 33480 h 1295640"/>
                    <a:gd name="textAreaBottom" fmla="*/ 1262160 h 1295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9"/>
                        <a:pt x="10800" y="1798"/>
                      </a:cubicBezTo>
                      <a:lnTo>
                        <a:pt x="10800" y="9002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699"/>
                        <a:pt x="10800" y="12598"/>
                      </a:cubicBezTo>
                      <a:lnTo>
                        <a:pt x="10800" y="19802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13"/>
                <p:cNvSpPr/>
                <p:nvPr/>
              </p:nvSpPr>
              <p:spPr>
                <a:xfrm>
                  <a:off x="4142520" y="2025720"/>
                  <a:ext cx="2952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x+2y=1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Text Box 14"/>
                <p:cNvSpPr/>
                <p:nvPr/>
              </p:nvSpPr>
              <p:spPr>
                <a:xfrm>
                  <a:off x="4142520" y="3168720"/>
                  <a:ext cx="2952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x-2y=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Rectangle 15"/>
            <p:cNvSpPr/>
            <p:nvPr/>
          </p:nvSpPr>
          <p:spPr>
            <a:xfrm>
              <a:off x="2142720" y="4334040"/>
              <a:ext cx="650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用代入法能否消去其中的未知数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852480" y="26179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②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x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428840" y="37195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+2y=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2571840" y="5217480"/>
            <a:ext cx="3124080" cy="1068840"/>
            <a:chOff x="2571840" y="5217480"/>
            <a:chExt cx="3124080" cy="1068840"/>
          </a:xfrm>
        </p:grpSpPr>
        <p:sp>
          <p:nvSpPr>
            <p:cNvPr id="96" name="Rectangle 8"/>
            <p:cNvSpPr/>
            <p:nvPr/>
          </p:nvSpPr>
          <p:spPr>
            <a:xfrm flipV="1">
              <a:off x="3686400" y="521712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=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571840" y="5332320"/>
              <a:ext cx="312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∴</a:t>
              </a: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6"/>
          <p:cNvGrpSpPr/>
          <p:nvPr/>
        </p:nvGrpSpPr>
        <p:grpSpPr>
          <a:xfrm>
            <a:off x="571680" y="971640"/>
            <a:ext cx="4795560" cy="1234080"/>
            <a:chOff x="571680" y="971640"/>
            <a:chExt cx="4795560" cy="1234080"/>
          </a:xfrm>
        </p:grpSpPr>
        <p:sp>
          <p:nvSpPr>
            <p:cNvPr id="99" name="Rectangle 3"/>
            <p:cNvSpPr/>
            <p:nvPr/>
          </p:nvSpPr>
          <p:spPr>
            <a:xfrm>
              <a:off x="3843360" y="100008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组合 15"/>
            <p:cNvGrpSpPr/>
            <p:nvPr/>
          </p:nvGrpSpPr>
          <p:grpSpPr>
            <a:xfrm>
              <a:off x="571680" y="971640"/>
              <a:ext cx="4771800" cy="1234080"/>
              <a:chOff x="571680" y="971640"/>
              <a:chExt cx="4771800" cy="1234080"/>
            </a:xfrm>
          </p:grpSpPr>
          <p:sp>
            <p:nvSpPr>
              <p:cNvPr id="101" name="Rectangle 2"/>
              <p:cNvSpPr/>
              <p:nvPr/>
            </p:nvSpPr>
            <p:spPr>
              <a:xfrm>
                <a:off x="1447920" y="971640"/>
                <a:ext cx="3232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x +2y =1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x -2y  =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4"/>
              <p:cNvSpPr/>
              <p:nvPr/>
            </p:nvSpPr>
            <p:spPr>
              <a:xfrm>
                <a:off x="3819600" y="1585800"/>
                <a:ext cx="1523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0"/>
              <p:cNvSpPr/>
              <p:nvPr/>
            </p:nvSpPr>
            <p:spPr>
              <a:xfrm>
                <a:off x="571680" y="1014480"/>
                <a:ext cx="91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｛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未知"/>
          <p:cNvSpPr/>
          <p:nvPr/>
        </p:nvSpPr>
        <p:spPr>
          <a:xfrm>
            <a:off x="2000160" y="928800"/>
            <a:ext cx="857520" cy="1214280"/>
          </a:xfrm>
          <a:custGeom>
            <a:avLst/>
            <a:gdLst/>
            <a:ahLst/>
            <a:rect l="l" t="t" r="r" b="b"/>
            <a:pathLst>
              <a:path w="624" h="912">
                <a:moveTo>
                  <a:pt x="0" y="96"/>
                </a:moveTo>
                <a:lnTo>
                  <a:pt x="0" y="912"/>
                </a:lnTo>
                <a:lnTo>
                  <a:pt x="624" y="912"/>
                </a:lnTo>
                <a:lnTo>
                  <a:pt x="624" y="0"/>
                </a:lnTo>
                <a:lnTo>
                  <a:pt x="0" y="0"/>
                </a:lnTo>
                <a:lnTo>
                  <a:pt x="0" y="9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7"/>
          <p:cNvSpPr/>
          <p:nvPr/>
        </p:nvSpPr>
        <p:spPr>
          <a:xfrm>
            <a:off x="5286240" y="28576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按着这样的思路与方法，试着解出下面的方程组</a:t>
            </a:r>
            <a:r>
              <a:rPr b="0" lang="en-US" sz="28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3"/>
          <p:cNvGrpSpPr/>
          <p:nvPr/>
        </p:nvGrpSpPr>
        <p:grpSpPr>
          <a:xfrm>
            <a:off x="894960" y="987480"/>
            <a:ext cx="3803400" cy="1438560"/>
            <a:chOff x="894960" y="987480"/>
            <a:chExt cx="3803400" cy="1438560"/>
          </a:xfrm>
        </p:grpSpPr>
        <p:sp>
          <p:nvSpPr>
            <p:cNvPr id="107" name="Rectangle 4"/>
            <p:cNvSpPr/>
            <p:nvPr/>
          </p:nvSpPr>
          <p:spPr>
            <a:xfrm>
              <a:off x="894960" y="1439640"/>
              <a:ext cx="72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例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>
              <a:off x="1923840" y="1211040"/>
              <a:ext cx="304920" cy="10670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2358000" y="987480"/>
              <a:ext cx="23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x-3y=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2322360" y="184464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x+3y=16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4724280" y="941400"/>
            <a:ext cx="3263760" cy="1508400"/>
            <a:chOff x="4724280" y="941400"/>
            <a:chExt cx="3263760" cy="1508400"/>
          </a:xfrm>
        </p:grpSpPr>
        <p:sp>
          <p:nvSpPr>
            <p:cNvPr id="112" name="AutoShape 13"/>
            <p:cNvSpPr/>
            <p:nvPr/>
          </p:nvSpPr>
          <p:spPr>
            <a:xfrm>
              <a:off x="4724280" y="1626480"/>
              <a:ext cx="1524240" cy="304200"/>
            </a:xfrm>
            <a:prstGeom prst="rightArrow">
              <a:avLst>
                <a:gd name="adj1" fmla="val 50000"/>
                <a:gd name="adj2" fmla="val 1252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4"/>
            <p:cNvSpPr/>
            <p:nvPr/>
          </p:nvSpPr>
          <p:spPr>
            <a:xfrm>
              <a:off x="6782040" y="1169640"/>
              <a:ext cx="228240" cy="114192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29520 h 1141920"/>
                <a:gd name="textAreaBottom" fmla="*/ 1112400 h 11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7167240" y="941400"/>
              <a:ext cx="82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7187040" y="1868400"/>
              <a:ext cx="79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5"/>
          <p:cNvSpPr/>
          <p:nvPr/>
        </p:nvSpPr>
        <p:spPr>
          <a:xfrm>
            <a:off x="928800" y="276084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②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x=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519200" y="390204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=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y=</a:t>
            </a: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2647800" y="5360400"/>
            <a:ext cx="3124080" cy="1068840"/>
            <a:chOff x="2647800" y="5360400"/>
            <a:chExt cx="3124080" cy="1068840"/>
          </a:xfrm>
        </p:grpSpPr>
        <p:sp>
          <p:nvSpPr>
            <p:cNvPr id="119" name="Rectangle 8"/>
            <p:cNvSpPr/>
            <p:nvPr/>
          </p:nvSpPr>
          <p:spPr>
            <a:xfrm flipV="1">
              <a:off x="3762360" y="536004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2647800" y="5475240"/>
              <a:ext cx="312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∴</a:t>
              </a: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01280" y="2949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160320" y="2895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785880" y="1395360"/>
            <a:ext cx="6901560" cy="2044440"/>
            <a:chOff x="785880" y="1395360"/>
            <a:chExt cx="6901560" cy="2044440"/>
          </a:xfrm>
        </p:grpSpPr>
        <p:sp>
          <p:nvSpPr>
            <p:cNvPr id="124" name="Text Box 5"/>
            <p:cNvSpPr/>
            <p:nvPr/>
          </p:nvSpPr>
          <p:spPr>
            <a:xfrm>
              <a:off x="785880" y="19317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3233880" y="1776240"/>
              <a:ext cx="304560" cy="8384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3546360" y="1395360"/>
              <a:ext cx="150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+3y=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3547080" y="2309760"/>
              <a:ext cx="13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x-3y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>
              <a:off x="5799960" y="19288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个方程只要两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3474000" y="2919240"/>
              <a:ext cx="286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可以消去未知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1328760" y="3429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3"/>
          <p:cNvSpPr/>
          <p:nvPr/>
        </p:nvSpPr>
        <p:spPr>
          <a:xfrm>
            <a:off x="1530000" y="494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相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798480" y="3529080"/>
            <a:ext cx="7031880" cy="1968480"/>
            <a:chOff x="798480" y="3529080"/>
            <a:chExt cx="7031880" cy="1968480"/>
          </a:xfrm>
        </p:grpSpPr>
        <p:sp>
          <p:nvSpPr>
            <p:cNvPr id="133" name="Text Box 17"/>
            <p:cNvSpPr/>
            <p:nvPr/>
          </p:nvSpPr>
          <p:spPr>
            <a:xfrm>
              <a:off x="798480" y="41115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>
              <a:off x="3157560" y="3834000"/>
              <a:ext cx="457200" cy="10173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6280 h 1017360"/>
                <a:gd name="textAreaBottom" fmla="*/ 991080 h 10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3624480" y="3529080"/>
              <a:ext cx="17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5x-7y=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3624480" y="4443480"/>
              <a:ext cx="186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5x+6y=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5942880" y="4062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个方程只要两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3397680" y="4977000"/>
              <a:ext cx="286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可以消去未知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176480" y="54342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6357960" y="487368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25"/>
          <p:cNvSpPr/>
          <p:nvPr/>
        </p:nvSpPr>
        <p:spPr>
          <a:xfrm>
            <a:off x="6003360" y="49435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8760" y="779400"/>
            <a:ext cx="1747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填一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57280" y="21002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解二元一次方程组时，在方程组的两个方程中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某个未知数的系数互为相反数，则可以直接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</a:rPr>
              <a:t>把这两个方程中的两边分别相加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消去这个未知数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如果某个未知数系数相等，则可以直接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</a:rPr>
              <a:t>把这两个方程中的两边分别相减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消去这个未知数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85640" y="1000080"/>
            <a:ext cx="1747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归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5:39:20Z</dcterms:created>
  <dc:creator> </dc:creator>
  <dc:description> </dc:description>
  <dc:language>en-US</dc:language>
  <cp:lastModifiedBy>Administrator</cp:lastModifiedBy>
  <dcterms:modified xsi:type="dcterms:W3CDTF">2018-12-28T05:40:07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